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AC8B0-DE63-4E1C-A297-913D05598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1DD03-E18C-49F3-B1F3-60733EA9F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1006F-26E3-44A5-A9C9-2C9211BC6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6D575-8F6A-4284-94EC-B4BF9A375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7D5D3-5BF8-4818-83BA-1C0961173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BFDA9-8C10-478C-A9C8-1B5D4A182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CE257-14AE-4CFF-8164-70B3D06A7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onents that have a publicly hosted si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laxy, MAKER Web Annotation Service, WebGBrow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ip side to not being monolith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times integration is not smo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09646-6BE1-4CEE-8752-9A8F9A68A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C988C-90C5-4795-9839-2E689650D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2B789-8CE1-4A6B-970C-EE8654BA4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91165-BFDE-48F8-979C-A3562F67F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B23D0-9B24-4163-BD55-983A5A523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B3B05-9F08-47A9-8AAA-6ED96B358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C1125-64E4-451D-B824-F7113F8D5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320" y="358236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0404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360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088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32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360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088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0404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83808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24080" y="0"/>
            <a:ext cx="6019920" cy="6858000"/>
          </a:xfrm>
          <a:prstGeom prst="rect">
            <a:avLst/>
          </a:prstGeom>
          <a:solidFill>
            <a:srgbClr val="001042"/>
          </a:solidFill>
          <a:ln w="9360">
            <a:solidFill>
              <a:srgbClr val="5d09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The State of GMO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5638680"/>
            <a:ext cx="574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2011 GMOD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 National Evolutionary Synthesis Center (NES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March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5578560"/>
            <a:ext cx="1371600" cy="127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4880" y="61833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ed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25680" y="2057400"/>
            <a:ext cx="5742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cott C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MOD Project Coord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ntario Institute for Cancer Research (OI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cott@scottcain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447920"/>
            <a:ext cx="6477120" cy="380880"/>
          </a:xfrm>
          <a:prstGeom prst="rect">
            <a:avLst/>
          </a:prstGeom>
          <a:solidFill>
            <a:srgbClr val="edfa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32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52280" y="5630760"/>
            <a:ext cx="167652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rowse 2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58572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2.0 rele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Distributed databases and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r accounts/track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Wig, BigWig and BA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JAX track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utomatic summary t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2.2 rele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r accounts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Details multi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iPad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rowse 2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55080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00" y="784080"/>
            <a:ext cx="6881760" cy="5307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82000" y="90000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082000" y="532764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082000" y="399564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8082000" y="2340000"/>
            <a:ext cx="909720" cy="96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H="1">
            <a:off x="7027920" y="145260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029360" y="584532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029360" y="451332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029360" y="285768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8200" y="2917800"/>
            <a:ext cx="107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0680" y="1512720"/>
            <a:ext cx="1282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51680" y="4618080"/>
            <a:ext cx="841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6920" y="5954760"/>
            <a:ext cx="1230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/S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92320" y="2825640"/>
            <a:ext cx="6824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ocalhost/cgi-bin/gb2/gbrowse/yeast_mysq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2362320" cy="2203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0440" y="1027080"/>
            <a:ext cx="291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thony deCatanz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hristopher Vandeve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eter Ruz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an Dav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0200" y="4775040"/>
            <a:ext cx="183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920" y="374508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Ho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77320" y="3429000"/>
            <a:ext cx="202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d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mar L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le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ara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3902040" cy="1082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89720" y="938160"/>
            <a:ext cx="297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eople than I could possibly name, and 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 set of interoperable open-source </a:t>
            </a:r>
            <a:r>
              <a:rPr b="1" lang="en-US" sz="3200" spc="-1" strike="noStrike">
                <a:solidFill>
                  <a:srgbClr val="001042"/>
                </a:solidFill>
                <a:latin typeface="Arial"/>
              </a:rPr>
              <a:t>software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 components for visualizing, annotating, and managing biologic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n active </a:t>
            </a:r>
            <a:r>
              <a:rPr b="1" lang="en-US" sz="3200" spc="-1" strike="noStrike">
                <a:solidFill>
                  <a:srgbClr val="001042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 of developers and users asking diverse questions, and facing common challenges, with their biologic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838080"/>
            <a:ext cx="88390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680" y="893880"/>
            <a:ext cx="29178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 2.00-2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rowse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 1.1-1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al 0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ine 0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New to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WebG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Web interface for creating GBrowse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IG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1042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Biologist-friendly” interface for Erga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Summer of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Hopefu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http://gmod.org/G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Cooperative application between Reactome, WormBase, and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9 suggested ideas with 8 possible mentors (and many more should the need ari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an Diego/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GBrows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d a Ubuntu VMware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tended by about 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GMOD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Presentations on GBrowse_syn, Galaxy, MAKER, Tr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tended by about 8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 least 25 workshops, tutorials and posters involving GMO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.org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Moved from CSHL to OI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 year in the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pdated the News entry interface—way easier to add i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Create a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dd a template at the bott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{{NewsItem|2011/03/05}}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issue in Database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Virtual”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Theory, tutorial or community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coming GMOD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October 2011: Toronto, Can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pril 2012: Washington, DC (in conjunction with the Biocurator me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6:56:20Z</dcterms:created>
  <dc:creator>GMOD / NESCent</dc:creator>
  <dc:description/>
  <dc:language>en-US</dc:language>
  <cp:lastModifiedBy>Dave Clements</cp:lastModifiedBy>
  <cp:lastPrinted>2009-10-27T11:05:13Z</cp:lastPrinted>
  <dcterms:modified xsi:type="dcterms:W3CDTF">2011-02-28T18:22:40Z</dcterms:modified>
  <cp:revision>55</cp:revision>
  <dc:subject/>
  <dc:title>PowerPoint Presentation</dc:title>
</cp:coreProperties>
</file>